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CCE-01C9-4988-B609-D80F6B58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81E-96C6-42D0-9CF4-900D6F34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BB2-0FD2-49AE-919C-F11B0375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96D-B183-4E37-8166-FF7FEBB9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F814-BE3F-4968-8C3D-7C36C787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B948-A69C-496C-BBF7-41DF7EEA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126E-563D-43C0-AFF9-EEBEAD83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9A15-41EE-474B-9722-124337A6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4F66-6F64-4361-9588-4206DFED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1045-BB7A-4048-9916-DF0C518D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FD0A-4868-4A90-9FAA-A2AC8B38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247-1974-44E3-BD3B-567536D5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0FC5-0DFA-46DC-BF7C-77D7FB92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64B9-3E5F-4B74-8DCB-AE2262EC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1D79-E10E-42E0-A098-8CE05F15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60AD-C11D-4A66-9E52-B41FD708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5469-3777-4742-BBE4-D659E37B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F99-E062-4EDE-B7DA-C0D3FA4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7C2-07D8-473D-8D28-0C9AD693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6D4-9E66-4EBF-868D-A49D799C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61B-591C-4989-9CA0-8A64F116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9AC-26BD-4624-9D15-3BDEB757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D7F-70C6-4EA5-A322-B33B05E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656-CCED-45B9-815E-4173F16C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6681-3102-4C5F-88FC-FF7F5763B8B5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385-1871-44AD-B0BB-C62DC44EED6A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21337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cc00"/>
                </a:solidFill>
                <a:latin typeface="Times New Roman"/>
              </a:rPr>
              <a:t>FUNKCJA JEDNEJ ZMIENNEJ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14400" y="20574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różnowartościowa jeżeli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dokładnie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92360" y="4653000"/>
            <a:ext cx="56880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60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1447920" y="6094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4952880" y="609480"/>
            <a:ext cx="17528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981080" y="609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2860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7524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4864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715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286000" y="8380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666880" y="1066680"/>
            <a:ext cx="2819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1981080" y="1676520"/>
            <a:ext cx="37339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762120" y="609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70866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762120" y="2209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nie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1447920" y="3200400"/>
            <a:ext cx="17524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5105520" y="3200400"/>
            <a:ext cx="19810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19810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2666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752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3341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3244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8672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2286000" y="3429000"/>
            <a:ext cx="3429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3048120" y="3886200"/>
            <a:ext cx="2286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30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62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Rectangle 33"/>
          <p:cNvSpPr/>
          <p:nvPr/>
        </p:nvSpPr>
        <p:spPr>
          <a:xfrm>
            <a:off x="7683480" y="343224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10666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7467480" y="3429000"/>
            <a:ext cx="304920" cy="45720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Obrazem zbioru AcX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wartości funkcji f dla argumentów ze zbioru 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468360" y="4133880"/>
                <a:ext cx="8373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6"/>
          <p:cNvSpPr/>
          <p:nvPr/>
        </p:nvSpPr>
        <p:spPr>
          <a:xfrm>
            <a:off x="755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219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835280" y="2781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227640" y="2565360"/>
            <a:ext cx="144000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979560" y="333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799240" y="434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622520" y="21844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5799240" y="180324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(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771640" y="3357720"/>
            <a:ext cx="3883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363920" y="259560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rzeciwobrazem zbioru CcY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których obrazy należą do zbioru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971640" y="4227480"/>
                <a:ext cx="70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900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5364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1979640" y="2997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372360" y="2781360"/>
            <a:ext cx="143964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123920" y="549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5943600" y="650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766880" y="2400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pl-PL" sz="4400" spc="-1" strike="noStrike" baseline="30000">
                <a:solidFill>
                  <a:srgbClr val="ffffcc"/>
                </a:solidFill>
                <a:latin typeface="Times New Roman"/>
              </a:rPr>
              <a:t>-1</a:t>
            </a: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(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943600" y="201924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2916360" y="3573360"/>
            <a:ext cx="3882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4508640" y="2811600"/>
            <a:ext cx="85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5"/>
          <p:cNvSpPr/>
          <p:nvPr/>
        </p:nvSpPr>
        <p:spPr>
          <a:xfrm>
            <a:off x="539640" y="72720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Jeśli zbiory X i Y są zbiorami liczbowymi, to funkcję f nazywamy liczbową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iszemy: f:D     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em funkcji f nazywamy zbiór wszystkich punktów płaszczyzny o współrzędnych (x,y) takich, że x należy do dziedziny funkcji, a y jest odpowiadającą mu wartością funkcj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2843280" y="2060640"/>
                <a:ext cx="504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571760" y="5442120"/>
                <a:ext cx="6168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333360"/>
            <a:ext cx="91440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 funkcji ZALEŻY OD JEJ DZIEDZINY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ZYKŁ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rysuj wykres funkcji y=x+1 przyjmując za dziedzinę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{-3, -1, 0, 2, 4}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&lt;-1,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R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914400" y="1747800"/>
            <a:ext cx="7543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iejscem zerowym funkcji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dla których wartość funkcji jest równa 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Geometrycznie: miejsce zerowe funkcji jest wyznaczone przez punkt(y) przecięcia wykresu z osią O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14400" y="549360"/>
            <a:ext cx="75438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a może nie mieć, mieć jedno, kilka, lub nieskończenie wiele miejsc zerowy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znaczyć miejsce zerowe funkcji (rachunkowo), to znaczy rozwiązać równanie f(x)=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990720" y="380880"/>
            <a:ext cx="2361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4920" y="1341360"/>
            <a:ext cx="853416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"/>
              </a:rPr>
              <a:t>Niech dane będą dwa niepuste zbiory  X i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żeli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każdemu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elementowi x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 przyporządkujemy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kładnie jeden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element y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Y to mówimy, że na zbiorze X została określona funkcja o wartościach w zbiorze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iszemy:                                      f- symbol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: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                                  x- argument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                                     y - wartość funkcji w pkt.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- zbiór argumentów (dziedzin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- przeciwdziedz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3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WordArt 1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914400" y="17478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są równe, jeśl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0"/>
              <p:cNvSpPr txBox="1"/>
              <p:nvPr/>
            </p:nvSpPr>
            <p:spPr>
              <a:xfrm>
                <a:off x="4572000" y="1773360"/>
                <a:ext cx="4767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2687760" y="3284640"/>
                <a:ext cx="397188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limLow>
                          <m:e>
                            <m:r>
                              <m:t xml:space="preserve">∀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91440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 funkcjach liczbowych można wykonywać działania arytmetyczn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3"/>
              <p:cNvSpPr txBox="1"/>
              <p:nvPr/>
            </p:nvSpPr>
            <p:spPr>
              <a:xfrm>
                <a:off x="1619280" y="1989000"/>
                <a:ext cx="5473800" cy="407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WordArt 20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rosn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3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Text Box 24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rosn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malej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1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Text Box 32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malej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92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stał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1"/>
              <p:cNvSpPr txBox="1"/>
              <p:nvPr/>
            </p:nvSpPr>
            <p:spPr>
              <a:xfrm>
                <a:off x="1766880" y="3068640"/>
                <a:ext cx="5446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 Box 32"/>
          <p:cNvSpPr/>
          <p:nvPr/>
        </p:nvSpPr>
        <p:spPr>
          <a:xfrm>
            <a:off x="1060560" y="501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są stał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914400" y="681120"/>
            <a:ext cx="754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ojęcia: funkcja rosnąca, malejąca, stała składają się na pojęcie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onotoniczności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funkcj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e rosnące lub malejące nazywamy ściśle monotonicznymi. Funkcje nierosnące lub niemalejące nazywamy monotonicznym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31"/>
              <p:cNvSpPr txBox="1"/>
              <p:nvPr/>
            </p:nvSpPr>
            <p:spPr>
              <a:xfrm>
                <a:off x="2532240" y="2870280"/>
                <a:ext cx="391464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33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parzystej jest symetryczny względem osi O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1" name="Text Box 39"/>
          <p:cNvSpPr/>
          <p:nvPr/>
        </p:nvSpPr>
        <p:spPr>
          <a:xfrm>
            <a:off x="914400" y="174780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nie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40"/>
              <p:cNvSpPr txBox="1"/>
              <p:nvPr/>
            </p:nvSpPr>
            <p:spPr>
              <a:xfrm>
                <a:off x="2333520" y="2852640"/>
                <a:ext cx="431172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Text Box 41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nieparzystej jest symetryczny względem pkt. O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31" name="Text Box 39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okresowa, jeśli istnieje taka liczba T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≠0, że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40"/>
              <p:cNvSpPr txBox="1"/>
              <p:nvPr/>
            </p:nvSpPr>
            <p:spPr>
              <a:xfrm>
                <a:off x="2220840" y="2941560"/>
                <a:ext cx="453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Text Box 41"/>
          <p:cNvSpPr/>
          <p:nvPr/>
        </p:nvSpPr>
        <p:spPr>
          <a:xfrm>
            <a:off x="611280" y="5589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„cyklicznie” powtarzają się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Line 4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Line 4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Line 4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Line 4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Line 4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Line 5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Line 5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Line 5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Line 5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Line 5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Line 5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Line 5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Line 5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Line 5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Line 5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Line 6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Line 6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Line 6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Line 6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Line 6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Line 6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Line 6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Line 6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Line 6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WordArt 69"/>
          <p:cNvSpPr txBox="1"/>
          <p:nvPr/>
        </p:nvSpPr>
        <p:spPr>
          <a:xfrm>
            <a:off x="2133720" y="2381400"/>
            <a:ext cx="4662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ADAN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22860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unkcję można określić na różne sposo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słownie- np. Każdemu uczniowi klasy I D  przyporządkowujemy jego numer w dziennik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rafem        X                                       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zorem   y= x + 1,  X=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abelką               </a:t>
            </a:r>
            <a:r>
              <a:rPr b="1" lang="pl-PL" sz="2400" spc="-1" strike="noStrike" u="sng">
                <a:solidFill>
                  <a:srgbClr val="ffffcc"/>
                </a:solidFill>
                <a:uFillTx/>
                <a:latin typeface="Times New Roman"/>
              </a:rPr>
              <a:t>x       a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1    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1447920" y="2286000"/>
            <a:ext cx="13716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26668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828800" y="236232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4267080" y="2286000"/>
            <a:ext cx="152424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48320" y="236232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209680" y="2590920"/>
            <a:ext cx="243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133720" y="3124080"/>
            <a:ext cx="2438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685800" y="843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1. Wyznacz dziedzinę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293840" y="2151000"/>
                <a:ext cx="6265800" cy="37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AutoShape 4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187280" y="135108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2. Podaj przykład (graf, tabelka, wykres) funkcji, któr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„na” i nie jest różnowartościow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różnowartościowa i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nie 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1187280" y="15368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3. Na podstawie wykresu (na tablicy) odczytaj własności funkcji - dziedzinę, zbiór wartości, monotoniczność, parzystość, okresowość, m-ca zerowe, wartości (dodatnie, ujemne),  obraz i przeciwobraz (zadanych zbiorów), czy jest „na”, różnowartościow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900000" y="1440000"/>
            <a:ext cx="76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4. Dany wykres funkcji (tablica) przekształć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punktu  O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dwusiecznej kąta  XO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translacji o wektor [3,-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5. Zbadaj parzyst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14"/>
              <p:cNvSpPr txBox="1"/>
              <p:nvPr/>
            </p:nvSpPr>
            <p:spPr>
              <a:xfrm>
                <a:off x="2529000" y="2276640"/>
                <a:ext cx="391464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11"/>
              <p:cNvSpPr txBox="1"/>
              <p:nvPr/>
            </p:nvSpPr>
            <p:spPr>
              <a:xfrm>
                <a:off x="2340000" y="2155680"/>
                <a:ext cx="408456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0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6. Zbadaj monotoniczn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11"/>
              <p:cNvSpPr txBox="1"/>
              <p:nvPr/>
            </p:nvSpPr>
            <p:spPr>
              <a:xfrm>
                <a:off x="1547640" y="2421000"/>
                <a:ext cx="6480360" cy="40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7. Dana jest funkc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14"/>
              <p:cNvSpPr txBox="1"/>
              <p:nvPr/>
            </p:nvSpPr>
            <p:spPr>
              <a:xfrm>
                <a:off x="4425840" y="1341360"/>
                <a:ext cx="334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Text Box 15"/>
          <p:cNvSpPr/>
          <p:nvPr/>
        </p:nvSpPr>
        <p:spPr>
          <a:xfrm>
            <a:off x="1116000" y="213372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Wyznacz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8. Wyznacz miejsca zerowe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16"/>
              <p:cNvSpPr txBox="1"/>
              <p:nvPr/>
            </p:nvSpPr>
            <p:spPr>
              <a:xfrm>
                <a:off x="2284560" y="2155680"/>
                <a:ext cx="419724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4"/>
          <p:cNvSpPr/>
          <p:nvPr/>
        </p:nvSpPr>
        <p:spPr>
          <a:xfrm flipV="1">
            <a:off x="1600200" y="1523880"/>
            <a:ext cx="0" cy="4114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990720" y="5257800"/>
            <a:ext cx="48765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rc 14"/>
          <p:cNvSpPr/>
          <p:nvPr/>
        </p:nvSpPr>
        <p:spPr>
          <a:xfrm>
            <a:off x="1295280" y="2060640"/>
            <a:ext cx="3581640" cy="357804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62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57200" y="228600"/>
            <a:ext cx="1752480" cy="459720"/>
          </a:xfrm>
          <a:prstGeom prst="rect">
            <a:avLst/>
          </a:prstGeom>
          <a:solidFill>
            <a:srgbClr val="2e1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ykres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838080" y="1523880"/>
            <a:ext cx="457200" cy="459720"/>
          </a:xfrm>
          <a:prstGeom prst="rect">
            <a:avLst/>
          </a:prstGeom>
          <a:solidFill>
            <a:srgbClr val="2509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562720" y="5486400"/>
            <a:ext cx="8380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rzykł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523880" y="914400"/>
            <a:ext cx="5486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1828800" y="15238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5029200" y="1523880"/>
            <a:ext cx="16765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523880"/>
            <a:ext cx="380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562720" y="15238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  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666880" y="1752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666880" y="236232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666880" y="2895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09480" y="335268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a)=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b)=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c)=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609480"/>
            <a:ext cx="3808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699160" y="606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2"/>
          <p:cNvSpPr/>
          <p:nvPr/>
        </p:nvSpPr>
        <p:spPr>
          <a:xfrm>
            <a:off x="1523880" y="762120"/>
            <a:ext cx="182880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5105520" y="762120"/>
            <a:ext cx="198108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05120" y="762120"/>
            <a:ext cx="53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4382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38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905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  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2286000" y="1371600"/>
            <a:ext cx="3048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7" name="AutoShape 10"/>
          <p:cNvCxnSpPr>
            <a:stCxn id="135" idx="1"/>
            <a:endCxn id="133" idx="2"/>
          </p:cNvCxnSpPr>
          <p:nvPr/>
        </p:nvCxnSpPr>
        <p:spPr>
          <a:xfrm flipV="1" rot="10800000">
            <a:off x="2666160" y="1371240"/>
            <a:ext cx="2667960" cy="457920"/>
          </a:xfrm>
          <a:prstGeom prst="curvedConnector5">
            <a:avLst>
              <a:gd name="adj1" fmla="val 45708"/>
              <a:gd name="adj2" fmla="val 74980"/>
              <a:gd name="adj3" fmla="val 45708"/>
            </a:avLst>
          </a:prstGeom>
          <a:ln w="0">
            <a:noFill/>
          </a:ln>
        </p:spPr>
      </p:cxnSp>
      <p:sp>
        <p:nvSpPr>
          <p:cNvPr id="138" name="Line 16"/>
          <p:cNvSpPr/>
          <p:nvPr/>
        </p:nvSpPr>
        <p:spPr>
          <a:xfrm>
            <a:off x="2666880" y="182880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Freeform 19"/>
          <p:cNvSpPr/>
          <p:nvPr/>
        </p:nvSpPr>
        <p:spPr>
          <a:xfrm>
            <a:off x="2728800" y="1608120"/>
            <a:ext cx="2678400" cy="4381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5407200" y="1635120"/>
            <a:ext cx="37800" cy="1159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Freeform 21"/>
          <p:cNvSpPr/>
          <p:nvPr/>
        </p:nvSpPr>
        <p:spPr>
          <a:xfrm>
            <a:off x="5265720" y="1622520"/>
            <a:ext cx="141480" cy="2376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2819520" y="851040"/>
            <a:ext cx="2590560" cy="28080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5291280" y="1042920"/>
            <a:ext cx="104760" cy="14148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1752480" y="228600"/>
            <a:ext cx="4572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5737320" y="2970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3809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43000" y="2133720"/>
            <a:ext cx="59436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(a)=g(b)=g(c)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1523880" y="3505320"/>
            <a:ext cx="18288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5105520" y="3505320"/>
            <a:ext cx="198108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2438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19051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396040" y="3733920"/>
            <a:ext cx="8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2209680" y="3962520"/>
            <a:ext cx="318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38"/>
          <p:cNvSpPr/>
          <p:nvPr/>
        </p:nvSpPr>
        <p:spPr>
          <a:xfrm>
            <a:off x="2286000" y="4419720"/>
            <a:ext cx="31100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8380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7391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114300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nie każdemu elementowi ze zbioru X przyporządkowano element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600200" y="685800"/>
            <a:ext cx="1905120" cy="1447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5257800" y="685800"/>
            <a:ext cx="220968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9051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4382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382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638680" y="990720"/>
            <a:ext cx="30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2448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2666880" y="838080"/>
            <a:ext cx="365760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209680" y="1295280"/>
            <a:ext cx="3429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209680" y="1295280"/>
            <a:ext cx="373392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2666880" y="1600200"/>
            <a:ext cx="3276720" cy="3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59436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914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77724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784080" y="2133720"/>
            <a:ext cx="18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30492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1 elementowi ze zbioru X przyporządkowano kilka elementów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Line 37"/>
          <p:cNvSpPr/>
          <p:nvPr/>
        </p:nvSpPr>
        <p:spPr>
          <a:xfrm flipV="1">
            <a:off x="1600200" y="3503520"/>
            <a:ext cx="0" cy="1906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Line 38"/>
          <p:cNvSpPr/>
          <p:nvPr/>
        </p:nvSpPr>
        <p:spPr>
          <a:xfrm>
            <a:off x="457200" y="51814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78" name="AutoShape 39"/>
          <p:cNvCxnSpPr/>
          <p:nvPr/>
        </p:nvCxnSpPr>
        <p:spPr>
          <a:xfrm flipV="1">
            <a:off x="304920" y="4266360"/>
            <a:ext cx="915120" cy="1220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9" name="Oval 42"/>
          <p:cNvSpPr/>
          <p:nvPr/>
        </p:nvSpPr>
        <p:spPr>
          <a:xfrm>
            <a:off x="1219320" y="4192560"/>
            <a:ext cx="152280" cy="745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0" name="AutoShape 43"/>
          <p:cNvCxnSpPr/>
          <p:nvPr/>
        </p:nvCxnSpPr>
        <p:spPr>
          <a:xfrm>
            <a:off x="1371240" y="4724280"/>
            <a:ext cx="229320" cy="457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81" name="Oval 44"/>
          <p:cNvSpPr/>
          <p:nvPr/>
        </p:nvSpPr>
        <p:spPr>
          <a:xfrm>
            <a:off x="1219320" y="46497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Oval 48"/>
          <p:cNvSpPr/>
          <p:nvPr/>
        </p:nvSpPr>
        <p:spPr>
          <a:xfrm>
            <a:off x="1600200" y="5181480"/>
            <a:ext cx="76320" cy="1080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3" name="AutoShape 50"/>
          <p:cNvCxnSpPr/>
          <p:nvPr/>
        </p:nvCxnSpPr>
        <p:spPr>
          <a:xfrm flipV="1" rot="10800000">
            <a:off x="1675800" y="3732840"/>
            <a:ext cx="129600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84" name="Oval 51"/>
          <p:cNvSpPr/>
          <p:nvPr/>
        </p:nvSpPr>
        <p:spPr>
          <a:xfrm>
            <a:off x="1600200" y="4192560"/>
            <a:ext cx="7632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Oval 52"/>
          <p:cNvSpPr/>
          <p:nvPr/>
        </p:nvSpPr>
        <p:spPr>
          <a:xfrm>
            <a:off x="2971800" y="3656160"/>
            <a:ext cx="152280" cy="777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56"/>
          <p:cNvSpPr/>
          <p:nvPr/>
        </p:nvSpPr>
        <p:spPr>
          <a:xfrm>
            <a:off x="3124080" y="4495680"/>
            <a:ext cx="2819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Oval 57"/>
          <p:cNvSpPr/>
          <p:nvPr/>
        </p:nvSpPr>
        <p:spPr>
          <a:xfrm>
            <a:off x="2971800" y="44211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59"/>
          <p:cNvSpPr/>
          <p:nvPr/>
        </p:nvSpPr>
        <p:spPr>
          <a:xfrm>
            <a:off x="457200" y="5638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, ponieważ każdemu x przyporządkowany jest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968400" y="3503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61"/>
          <p:cNvSpPr/>
          <p:nvPr/>
        </p:nvSpPr>
        <p:spPr>
          <a:xfrm>
            <a:off x="63244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914400" y="45720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14400" y="2362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"na", jeżeli każdy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co najmniej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2"/>
          <p:cNvSpPr/>
          <p:nvPr/>
        </p:nvSpPr>
        <p:spPr>
          <a:xfrm>
            <a:off x="1752480" y="457200"/>
            <a:ext cx="19051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5410080" y="457200"/>
            <a:ext cx="19814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36232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8195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13372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0199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40080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6386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64008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2819520" y="68580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3048120" y="914040"/>
            <a:ext cx="2971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2514600" y="1600200"/>
            <a:ext cx="3886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121932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7696080" y="45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44197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w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1752480" y="3048120"/>
            <a:ext cx="190512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5410080" y="3048120"/>
            <a:ext cx="198144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2819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2133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514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019920" y="327672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3048120" y="32767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Line 25"/>
          <p:cNvSpPr/>
          <p:nvPr/>
        </p:nvSpPr>
        <p:spPr>
          <a:xfrm flipV="1">
            <a:off x="2362320" y="3505320"/>
            <a:ext cx="365760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V="1">
            <a:off x="2819520" y="4114440"/>
            <a:ext cx="3200400" cy="1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4419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91440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1447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na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7:31:02Z</dcterms:created>
  <dc:creator>AP</dc:creator>
  <dc:description/>
  <dc:language>en-US</dc:language>
  <cp:lastModifiedBy>AP</cp:lastModifiedBy>
  <dcterms:modified xsi:type="dcterms:W3CDTF">2015-04-07T03:41:52Z</dcterms:modified>
  <cp:revision>97</cp:revision>
  <dc:subject/>
  <dc:title>FUNKCJA JEDNEJ ZMIENNEJ</dc:title>
</cp:coreProperties>
</file>